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1052280"/>
            <a:ext cx="8229600" cy="14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тегрисане ак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мске студије фармације</a:t>
            </a:r>
            <a:br>
              <a:rPr sz="2800"/>
            </a:b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Фармакологиј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684360" y="2852640"/>
            <a:ext cx="77724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ринципи лечења хиперлипидемија. </a:t>
            </a:r>
            <a:r>
              <a:rPr b="1" lang="sr-RS" sz="2800" spc="-1" strike="noStrike">
                <a:solidFill>
                  <a:srgbClr val="000000"/>
                </a:solidFill>
                <a:latin typeface="Comic Sans MS"/>
              </a:rPr>
              <a:t>Фармакотерапија срчаних арит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13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 пред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971640" y="5157720"/>
            <a:ext cx="69087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Доц. др Тамара Николић Турни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линичка слика арит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000" y="2060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</a:rPr>
              <a:t>Без симпто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</a:rPr>
              <a:t>Симптоматске аритм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алпитације (осећај "лупања срца", бржег и појачаног срчаног ра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лаксалост, ум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маглица, вртоглавица, синк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л у грудима, гуш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наци попуштања срчане функције, едем плућа, хемодинамски кола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рчани засто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ечење арит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000" y="2060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Терапијски циљев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збијање (прекид) насталог поремећаја ритма, симптоматско побољшање, превенција комплик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речавање појаве нових епиз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дужење живота пациј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ечење арит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000" y="2060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мплексно, тешко, неизве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Фармаколошка терапија (антиаритмиц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фармаколошко лечењ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лектроконвер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градња пејсмејкера и дефибрил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диофреквентна катетер абл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ируршка абл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ечење арит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000" y="2060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мањење значаја употребе антиаритмика, збо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аритмогеног деловања (посебно када се примењују профилактич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ругих могућих озбиљних нежељених дејс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јасноћа у погледу корелације претклиничких и клиничких ефек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ежаног испитивања ефикасности у хитним стањ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напређења нефармаколошких терапијских метода (у многим индикацијама ефикасније су од лек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Основни принципи рационалне фармакотерапије арит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4920" y="213372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цизно поставити дијагнозу (врста аритмије, узрок, механизам наста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ечити основну болест, отклонити или минимализовати преципитирајуће чинио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бор антиаритмика, дозу лека, начин (пут) и дужину примене прилагодити индивидуалним карактеристикама болес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Основни принципи рационалне фармакотерапије арит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213372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нтиаритмике (укључујући и комбинације лекова) применити само ако је корист од њихове употребе недвосмислено већа од потенцијалног р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декватно проценити ризик од тромбоемболијских компликација - користити антокоагулансе и антиагрегационе лекове у превен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мену лекова ускладити са нефармаколошким мерама леч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Антиаритм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5280" y="1736640"/>
          <a:ext cx="8497800" cy="5121360"/>
        </p:xfrm>
        <a:graphic>
          <a:graphicData uri="http://schemas.openxmlformats.org/drawingml/2006/table">
            <a:tbl>
              <a:tblPr/>
              <a:tblGrid>
                <a:gridCol w="1203480"/>
                <a:gridCol w="3008160"/>
                <a:gridCol w="42861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ughan–Williams/Singh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класифик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нидин, прокаинамид, дизопирамид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ициз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оцијациј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н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докаин, мексилетин, токаинид, фенито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за дисоцијациј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н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лекаинид, пропафенон, енкаин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а дисоцијациј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н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енолол, пропранолол, есмо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окада бета рецеп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2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алол, дофетилид, ибутилид, бретил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жавају акциони потенцијал ср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апамил, дилтиаз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окирај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не волтажне кана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јодарон, дронедарон, аденоз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окад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К канала, бета рецептора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н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ласификација према примарном месту делов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16601" t="45955" r="33944" b="8214"/>
          <a:stretch/>
        </p:blipFill>
        <p:spPr>
          <a:xfrm>
            <a:off x="755640" y="2421000"/>
            <a:ext cx="75564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иаритмици I груп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-dependent block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ито делују на дужину акционог потенциј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ецифична нежељена деј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ови Iб групе најбезбедн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ови Iц изазивају фаталне аритм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иаритмици II груп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ањују аритмогено дејство симпатикуса на ср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пранолол:за лечење преткоморских и коморских аритмија услед претеране активације симпатикуса (после ИМ, опште анестезије); код урођеног продужења QT интерв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молол: селективни бета-1 блокатор, за брзу контролу рада комора код атријалног флатера или фибри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Аритм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иниција: Поремећаји нормалног, регуларног, синусног срчаног рит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у се јавити као последица бројних срчаних и екстракардијалних обољења (стањ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ст и веома значајан проблем у клиничкој пракси (висока преваленца КВС обољења у Србији!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имптоматске (бенигне) и симптоматске (озбиљне, хемодинамска нестабилнос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ањују срчану функцију, доводе до тромбоемболијских компликација (мождани удар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рок су напрасне срчане смр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иаритмици III груп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ада канала за К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осим сотал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аритмогени потенциј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ретилијум: за лечење најтежих коморских арит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фетилид: НД: torsade de poi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иаритмици IV груп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поравају спонтану деполаризацију ћелија СА чвора и спровођење кроз АВ ч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апамил: за лечење преткоморских аритмија и успостављање фреквенције комора код постојања атријалне фибрилације и фла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мјодар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јефикаснији антиаритм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ужава акциони потенцијал и рефрактерни период, смањује потрошњу кисеоника и узрокује хипотенз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држи ј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онедарон: дериват амјода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бор антиаритмика у терапији најзначајнијих поремећаја рит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432160"/>
            <a:ext cx="822960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инусна тахикардиј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та блокатори или блокатори калцијумских канала (верапамил, дилтиазем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ароксизмална суправентрикуларна тахикардиј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ид аритмије: и.в. верапамил, аденозин или бета блока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енозин у предности код срчане инсуфицијенције или ако је пацијент узимао бета блока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бор антиаритмика у терапији најзначајнијих поремећаја рит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Атријална фибрилација (хроничн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ерзистентна АФ - за конверзију ирегуларног ритма у синусни и одржавање нормалног ритма: пропафенон, ибутилид, дофетилид, амјодарон, соталол,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 група по В-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е конверзије: антикоагулантна профила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ерманентна (трајна) А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нтрола коморске фреквенце: бета блокатори, верапамил (кад нема ХСИ), дигоксин (код ХСИ), амјода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евенција тромбоемболије: орални антикоагуланси, антиагрегациони лекови (код мањег риз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бор антиаритмика у терапији најзначајнијих поремећаја рит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орске екстрасисто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лечити асимптоматске, појединачне екстраситоле, и ако нема морфолошког оштећења миока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та блокатори, I и III група по В-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орске аритмије код инфаркта миокард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кутни прекид и профилакс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јодарон, бета блокатори, лидокаин (само и.в. може да се даје), мексилетин ("орални лидокаин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бор антиаритмика у терапији најзначајнијих поремећаја рит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орска тахикардија и фибрилац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јтежи поремећаји ритма (срчани застој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утно: амјодарон, лидокаин, прокаинам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онично (профилакса): амјодарон, соталол, бета блока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птоматска брадикардија/АВ блок 2. и 3. степена, срчани застој (асистолија, ЕМ дисоцијациј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роп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инофилин (код АВ блока исхемијске етиологије)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бор антиаритмика у терапији најзначајнијих поремећаја рит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итмије код предозирања дигоксин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нитоин, лидока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гнезијум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лијум (ако постоји дефици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Torsade de pointes"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орска тахикард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 примене лекова који продужавају реполаризацију комора (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Q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ид аритмије: магнезијум сулфат 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mol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јзначајнија нежељена дејства и мере опр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205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аритмијско деј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зирање или идиосинкра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а - "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orsade de pointes"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и амјодарон ретко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 група – фаталне аритмије код оштећења миокарда (после инфарк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бан опрез код истовремене примене са другим лековима који продужавају реполаризацију (еритромицин, флуорохинолони, фенотиазини, ТЦ антидепресиви и др.) или доводе до хипокалемије и хипомагнеземије (диуретиц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екови који могу проузроковати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orsade de poi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Content Placeholder 2" descr=""/>
          <p:cNvPicPr/>
          <p:nvPr/>
        </p:nvPicPr>
        <p:blipFill>
          <a:blip r:embed="rId1"/>
          <a:stretch/>
        </p:blipFill>
        <p:spPr>
          <a:xfrm>
            <a:off x="393840" y="2158920"/>
            <a:ext cx="8508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Етиологија арит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000" y="2060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чана обољења: исхемијска болест срца, хронична срчана инсуфицијенција, урођене и стечене срчане мане, запаљенске болест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ружена обољења (патолошка стања): поремећај функције штитасте жлезде, бубрежна инсуфицијенција, респираторне болести, инфекције, хематолошки поремећаји, губитак течности и електролита, хипер/хипотермија, анксиозност, интоксикације (алкохол, кофеин, никотин, наркотици, лекови и др.), стрес, операције у општој анестезиј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вучени из употр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360" y="2205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вучени из промета збо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sade de poi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темизол и терфенадин (неселективни антихистаминиц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саприд (прокинет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епафлоксацин (антибиотик,флуорохинол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одилин (антихолинергик и спазмолит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оперидол (бутирофенон за неуролепт аналгезиј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тиндол (антипсихот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дофлазин (антагонис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азодилатат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вометадил (опијатни аналгет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мена антиаритмика у трудноћи и лактациј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360" y="2205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ају тератогено дејство, али могу доводити до: поремећаја у КВС и ЦНС-у, метаболичких поремећаја, застоја у расту плода, превременог или одложеног поремећај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истити их у трудноћи само ако је корист већа од ризика по плод (већина је Ц група/Ф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периоду лактације већина антиаритмика се може релативно безбедно користити (уз надзор над одојчетом), изузев амјодарона чију примену треба избегавати увек када је то могућ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иперлипидем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емећаји метаболизма липопротеина који се испољавају повећањем серумске концентрације холестерола или триглицерида, или оба липида зајед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иноним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Хиперлипопротеинемије (ХЛП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липидемије (адекватнији назив - поремећај односа/"равнотеже" липидских компоненти у крв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иперлипидем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Један од најзначајнијих фактора ризика за настанак атеросклерозе и њених компликација (инфаркт срца, мозга и др.), на који се може утица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ки значај у нашој земљи, која је међу водећима у свету по броју оболелих и умрлих од КВС боле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бан проблем - све већа учесталост у млађој популациј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иперлипидем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ар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наслед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ундар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оследица других болести /патолошких стања или узимања лек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шови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комбиноване: 1. и 2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лно, урођене ХЛП карактерише квантитативно израженији липидни дисбаланс =&gt; рана атероскле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пракси, најчешће се срећу секундарне ХЛП (&gt;9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енотипска класификација ХЛП по Фридриксону/СЗ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типова: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, 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,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II, IV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јчешћи (40-50%):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 и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 тип: ↑↑ХОЛ, ↑ТГЛ, висок атерогени риз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: ↑↑↑ТГЛ, Н/↑ХОЛ, знатно мањи атерогени ризик од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ДЛ је обично смањен код свих об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д типова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инирају високо повишени ТГ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линичка слика ХЛ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д већине пацијена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пидни поремећај је благог до умереног степ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го без значајних симптома, често се открије када се јаве компликације атеросклеро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шка хипертриглициредем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епатоспленомегалија, некарактеристични болови у трбух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јак абдоминални бол (акутни панкреатити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тинална лип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шка хиперхолестеролем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жни и тетивни ксантоми, ксантелазме, "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rcus senilis"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ожњ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ечење ХЛ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апијски циљев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ањити ризик од КВС морбидитета (ИБС и др.) и мортал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ечити појаву акутног панкреатит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ресија симптома/знакова липидног поремећ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ељне вредности липида у крви за већину пацијената: принцип "5-4-3-2-1" (ХОЛ-4 липидне компоненте-ЛДЛ-ТГЛ-ХД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ечење ХЛ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гијенско дијететски режим живота и исхране: одговарајућа исхрана, повећана физичка активност, смањење уноса алкохол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рмакотерапија (хиполипидемици, дијететски суплементи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е нефармаколошке мере: вантелесно (екстракорпорално) уклањање холестерола, хируршко лечење (парцијални илеални бајпас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чење ХЛ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тин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компетитивна инхибиција ензима:3-хидрокси-3-метилглутарил коензим А редуктаза (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HMG CoA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укта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бра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деривати фибричне кисели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тинска кисе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оле за измену анј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зетимиб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инхибитор апсорпције холестеро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бу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ласификација арит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000" y="2060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ма месту настанка (пореклу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правентрикуларне (преткоморске и АВ чв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нтрикуларне (коморс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снову брзине срчане фреквенц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хиаритмије ("брз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диаритмије ("споре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ма механизму наста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бог поремећаја у стварању импул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бог поремећаја у спровођењу електричне дра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ат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фикасни и релативно безбедни хиполипемиц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ови првог избора у терапији већине ХЛП (хиперхолестролемиј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начајно место у медикаментозној превенцији компликација атеросклерозе код високо ризичних пацијена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јчешће се користе симвастатин и аторвастатин, ређе правастатин, росувастатин и флувастат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ат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rcRect l="13242" t="47844" r="30134" b="7530"/>
          <a:stretch/>
        </p:blipFill>
        <p:spPr>
          <a:xfrm>
            <a:off x="395280" y="2133720"/>
            <a:ext cx="85294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дикације за примену стат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арна превенциј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С морбидитета и морталитета код високоризичних пацијената са хиперхолестролемијом (високим нивоом ХОЛ и/или другим удруженим значајним факторима ризика, посебно ако ХДР није дао очекиване резултат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ундарна превенциј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С ризика, независно од нивоа холестерола (после прележаног инфаркта срц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жељена дејства стат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Хепатотоксично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чно асимптоматски, блажи и пролазни пораст трансаминаза, ретко са клиничким значајем када се користе уобичајене доз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 увођења лека и периодично у току примене контролисати АЛТ и А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давати лек ако с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аминаз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пу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над ГГН (активна болест јетр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опатија/рабдомио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тко, али потенцијално озбиљно, дозно-зависно 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зик повећан к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же ХБИ, хипотиреозе, алкохолизма, старих особа, истовремене примене фибрата или НК, употребе лекова или хране који снажно инхибирају ЦИП450 у јетри: сок од грејпфрута, еритромицин, итраконазол, верапамил/дилтиазем, амјодарон, циклоспорин и др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бр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ривати фибричне киселине, ефикасни у лечењу примарних и секундарних ХЛП са доминантно повишеним вредностима ТГ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стално или у комбинацији са другим хиполипидемицима најчешће се кори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емфиброзил (1. генера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енофибрат, ципрофибрат, безафибрат (2. генера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ра употреба ових лекова ограничена је због озбиљних нежељених деј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дикације за примену фибр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ви терапијски избор код тешких изолованих хипертриглициредемија (урођени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шовите ХЛП у комбинацији са статинима или 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ва алтернатива статинима када њихова примена није могу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кундарна ХЛП код пацијената са ДМ тип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жељена дејства и мере опр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лкулоза жучне кесе, хепатитис и миопатија (слично статинима), сексуалне дисфункције, фотосензитив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зна примена код инсуфицијенције јетре и бубрега (КИ код тешких обл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јачавају дејство оралних антикоагуланаса: када се уводи фибрат дозу ОА треба смањити за 1/3 до 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егавати примену у трудноћи и лактацији (ембриотоксични код животиња, недовољно података о безбед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иац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Б групе, веома ефикасан хиполипидемик, али има лошу подношљивост због чега се не користи пу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ањује знатно и ТГЛ и ХОЛ (јаче и брже ТГЛ), повећава ниво ХДЛ више од статина и фиб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ално се може примењивати за лечење хипертриглициредемија, а у комбинацији са статинима или фибратима код изражених или резистентних ХЛ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иац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ајна нежељена деј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дром сличан грип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еома често и непријатно Н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ечава се применом таблете АСК 1/2 сата пре НК, узимањем лека са храном и постепеним увођењем лека у терап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епатотоксично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ризик ↑ код примене већих до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лици са продуженим ослобађањем активне супстанце не смеју се просто мењати еквивалентним дозама обичних табл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ипергликемија, хиперурикемија, погоршање пептичке улкусне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ниторинг НД (хепатограм гликемија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бегавати примену у трудноћи и лактацији (нема поузданих података о безбедности, продире у млек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јонске см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естрирамин и холести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ативно слаби хиполипидем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тко се користе због непријатних Г-И нежељених ефеката и интеракција на нивоу апсорп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мају се орално, не апсорбују се у ГИТ, везују жучне киселине чиме се повећава њихово излучивање столиц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ид ентерохепатичне циркулације ЖК доводи до повећања њихове синтезе у јетри и појачаног преузимања ЛДЛ-а, што резултира смањењем концентрације Х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управентрикуларне аритм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000" y="2060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Тахиаритм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усна тахикард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правентрикуларне екстрасистоле (превремене контрак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оксизмалана суправентрикуларна тахикард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ријални флатер (лепршање) и фибрилација (треперењ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преекситације комора : Волф-Паркинсон-Вајт (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WPW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Брадиаритм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усна брадикардија, С-А блок, Т-Б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-б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јонске см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исте се у лечењу хиперхолестеролемија, углавном у комбинацији са статинима или 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љена деј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 у трбуху, надимање, опстипација, стеаторе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ањење апсопције липосолубилних витамина (А, Д, Е и К) код дуже примене (опрез у трудноћи и лактациј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метају апсорпцију других лекова, који се морају применити 1 сат пре или 4-6 сати после 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д деце: хиперхлоремијска ацидоза код пролонгиране употр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ијатног су укуса, па се морају узимати растворени у воћном с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стали хиполипем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ЗЕТИМИ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хибитор апсорпције ХОЛ из ГИТ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исти се у комбинацији са статинима у лечењу примарне хиперхолестроле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форно се примењује (1 орално) и добро се подно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 не треба користити код умерене и тешке инсуфицијенције јетре, у трудноћи и лакт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УКО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фикасан лек, снижава ХОЛ и ЛДЛ, спречава прогресију АТ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азива коморске аритмије ("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orsade de pointes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уги лекови и дијететски суплементи за лечење ХЛ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Орлис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хибитор панкреасне липазе, смањује апсорпцију ТГЛ из ГИТ-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исти се за лечење гојазност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ли нема значајно дејство на ниво ТГЛ и ХОЛ у серу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Омега 3 незасићене масн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љна влакн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створљива (пектин, гвар) и нерастворљива (целулоза, лигнин): прва снижавају ХОЛ, а друга ТГ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парати сој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снижавају ниво ХОЛ, корисни у превенцији ИБ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тостеро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снижавају повишени ХОЛ у крви смањујући његову апсорпцију из Г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94920" y="126828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Хвала на пажњ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ентрикуларне аритм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000" y="2060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Тахиаритм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орске екстрасистоле (бигеминије, тригеминије, "Р на Т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орска тахикардија (различите врсте: мономорфне, полиморф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нтрикуларни флатер и фибрил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Брадиаритм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к спровођења надражаја дистално од АВ ч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Механизам настанка арит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000" y="2060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 основи је поремећај </a:t>
            </a:r>
            <a:r>
              <a:rPr b="0" lang="ru-RU" sz="2400" spc="-1" strike="noStrike">
                <a:solidFill>
                  <a:srgbClr val="92d050"/>
                </a:solidFill>
                <a:latin typeface="Comic Sans MS"/>
              </a:rPr>
              <a:t>функције јонских канал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који може настати усле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ипоксије/исхемије/некрозе тк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иброзних промена у срцу (нпр. ожиљак после инфаркта и др.) и механичких утицаја (истезања миоци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цидобазних (ацидоза/алкалоза) и електролитних поремећаја (хипо/хипер К, Са,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M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исфункције аутономног нервног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јства лекова и отрова (никотин, алкохол,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ођених аномалија канала (каналопатија),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проводни апарат ср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000" y="206064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рмалан срчани рад се одвија аутоматски, под контролом електричних импулса који се стварају у СА чв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sr-Latn-R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ласи деполаризације се шире у све делове срца, спроводни систем и радну мускулат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Механизам настанка арит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000" y="2060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ремећаји ритма настају због абнормалности у стварању импулса и/или провођењу импул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радиаритмије настају због смањења интринзичне функције електростимулатора или блокова у провођењу, углавном унутар АВ– чвора или Хис–Пуркињеова систе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ћину тахиаритмија узрокује кружни механизам (енгл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entry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ке настају због појачаног нормалног аутоматицитета или услед поремећеног механи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аутоматиц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Marko</cp:lastModifiedBy>
  <dcterms:modified xsi:type="dcterms:W3CDTF">2021-01-28T12:51:38Z</dcterms:modified>
  <cp:revision>250</cp:revision>
  <dc:subject/>
  <dc:title>Slide 1</dc:title>
</cp:coreProperties>
</file>